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</p:sldIdLst>
  <p:sldSz cx="9144000" cy="6858000"/>
  <p:notesSz cx="9925050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9925200" cy="67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1"/>
          <p:cNvSpPr/>
          <p:nvPr/>
        </p:nvSpPr>
        <p:spPr>
          <a:xfrm>
            <a:off x="0" y="0"/>
            <a:ext cx="9925200" cy="67816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2"/>
          <p:cNvSpPr/>
          <p:nvPr/>
        </p:nvSpPr>
        <p:spPr>
          <a:xfrm>
            <a:off x="0" y="0"/>
            <a:ext cx="9925200" cy="67816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0" y="0"/>
            <a:ext cx="9925200" cy="67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4"/>
          <p:cNvSpPr/>
          <p:nvPr/>
        </p:nvSpPr>
        <p:spPr>
          <a:xfrm>
            <a:off x="0" y="0"/>
            <a:ext cx="9925200" cy="6781680"/>
          </a:xfrm>
          <a:prstGeom prst="roundRect">
            <a:avLst>
              <a:gd name="adj" fmla="val 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5"/>
          <p:cNvSpPr/>
          <p:nvPr/>
        </p:nvSpPr>
        <p:spPr>
          <a:xfrm>
            <a:off x="0" y="0"/>
            <a:ext cx="9925200" cy="6781680"/>
          </a:xfrm>
          <a:prstGeom prst="roundRect">
            <a:avLst>
              <a:gd name="adj" fmla="val 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6"/>
          <p:cNvSpPr/>
          <p:nvPr/>
        </p:nvSpPr>
        <p:spPr>
          <a:xfrm>
            <a:off x="0" y="0"/>
            <a:ext cx="9925200" cy="6781680"/>
          </a:xfrm>
          <a:prstGeom prst="roundRect">
            <a:avLst>
              <a:gd name="adj" fmla="val 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0" y="0"/>
            <a:ext cx="4302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5622840" y="0"/>
            <a:ext cx="43005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body"/>
          </p:nvPr>
        </p:nvSpPr>
        <p:spPr>
          <a:xfrm>
            <a:off x="992160" y="3220920"/>
            <a:ext cx="7934400" cy="30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0" y="6319800"/>
            <a:ext cx="4302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ldNum" idx="4"/>
          </p:nvPr>
        </p:nvSpPr>
        <p:spPr>
          <a:xfrm>
            <a:off x="562248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E9B2C-AB7F-4727-A938-2D7CE173FA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20919-3302-4E1A-9BA4-4A8F835696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3267000" y="515880"/>
            <a:ext cx="3390840" cy="25434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92160" y="3220560"/>
            <a:ext cx="7935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47C8F-44AA-4D8B-B93B-3CABF0D192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3267000" y="515880"/>
            <a:ext cx="3390840" cy="25434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92160" y="3220560"/>
            <a:ext cx="7935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23078-3159-4DFD-9267-0DF7010D58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992160" y="3220920"/>
            <a:ext cx="794088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юбая стрессовая ситуация обладает  такими характеристиками, как интенсивность  и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длительность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текани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5622840" y="6440400"/>
            <a:ext cx="4300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1C4A7-4C2C-49BF-9DF8-1841274A14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1"/>
          <p:cNvSpPr/>
          <p:nvPr/>
        </p:nvSpPr>
        <p:spPr>
          <a:xfrm>
            <a:off x="5622840" y="6440400"/>
            <a:ext cx="4300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3267000" y="507960"/>
            <a:ext cx="3392640" cy="25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992160" y="3220560"/>
            <a:ext cx="7935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5622840" y="644040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E9D31-7043-4CEF-8521-2DE825052A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3267000" y="5079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91800" y="3220560"/>
            <a:ext cx="79376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Аффилиация – это стремление быть в обществе других людей, потребность в создании доверительных, теплых, эмоционально значимых отношений. Под это понятие попадают такие категории как общение, дружба, любовь и многие другие. Характер взаимоотношений с родителями и сверстниками в раннем детстве обусловливает формирование данной потребности. Аффилиация ведет к снижению тревожности и смягчает последствия как психологического, так и физиологического стрес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"/>
          <p:cNvSpPr/>
          <p:nvPr/>
        </p:nvSpPr>
        <p:spPr>
          <a:xfrm>
            <a:off x="5622840" y="6440400"/>
            <a:ext cx="4297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AC739-3C8A-40AC-B99A-2FFD12A4443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6869A-77C5-40B8-90D2-84A67447EE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3267000" y="515880"/>
            <a:ext cx="3390840" cy="25434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92160" y="3220560"/>
            <a:ext cx="7935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79AFA-D749-4308-8FEE-7C74B57F7B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3267000" y="515880"/>
            <a:ext cx="3390840" cy="25434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92160" y="3220560"/>
            <a:ext cx="7935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2E392-9BA6-47AC-AC93-F5EA892666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3267000" y="515880"/>
            <a:ext cx="3390840" cy="25434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92160" y="3220560"/>
            <a:ext cx="7935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FC5FB-0979-4366-8BA7-0D3CB08DA8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3267000" y="515880"/>
            <a:ext cx="3390840" cy="25434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92160" y="3220560"/>
            <a:ext cx="7935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ACDE1-4183-40DE-B252-63D23049DA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3267000" y="515880"/>
            <a:ext cx="3390840" cy="25434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92160" y="3220560"/>
            <a:ext cx="7935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C1535-CE78-4EAF-BFA6-3C77CBED11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267000" y="515880"/>
            <a:ext cx="3390840" cy="25434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92160" y="3220560"/>
            <a:ext cx="7935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5AE6D-4D4B-4CA6-AE8A-F3FB5F942B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1"/>
          <p:cNvSpPr/>
          <p:nvPr/>
        </p:nvSpPr>
        <p:spPr>
          <a:xfrm>
            <a:off x="5622840" y="6440400"/>
            <a:ext cx="4300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body"/>
          </p:nvPr>
        </p:nvSpPr>
        <p:spPr>
          <a:xfrm>
            <a:off x="992160" y="3220560"/>
            <a:ext cx="7935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F611B-A28D-45C8-9670-0EB27FA170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3267000" y="515880"/>
            <a:ext cx="3390840" cy="25434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92160" y="3220560"/>
            <a:ext cx="7935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083E3-07D1-45D9-9BF6-E5F2EBF989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3267000" y="515880"/>
            <a:ext cx="3390840" cy="25434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92160" y="3220560"/>
            <a:ext cx="7935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83F0F-729C-4168-9FA8-503EEF2F00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3267000" y="515880"/>
            <a:ext cx="3390840" cy="25434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92160" y="3220560"/>
            <a:ext cx="7935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013CA-8FF7-4A44-9F14-E40FC1664D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1"/>
          <p:cNvSpPr/>
          <p:nvPr/>
        </p:nvSpPr>
        <p:spPr>
          <a:xfrm>
            <a:off x="5622840" y="6440400"/>
            <a:ext cx="4300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body"/>
          </p:nvPr>
        </p:nvSpPr>
        <p:spPr>
          <a:xfrm>
            <a:off x="992160" y="3220920"/>
            <a:ext cx="79423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Стресс - способ достижения резистенции организма при действии на него повреждающего факто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Резисте́нтность (от лат. resistentia — сопротивление, противодействие) — сопротивляемость (устойчивость, невосприимчивость) организма к воздействию различных фак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F7366-A64D-4316-B95A-80B0A21B60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1"/>
          <p:cNvSpPr/>
          <p:nvPr/>
        </p:nvSpPr>
        <p:spPr>
          <a:xfrm>
            <a:off x="5622840" y="6440400"/>
            <a:ext cx="4300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2"/>
          <p:cNvSpPr/>
          <p:nvPr/>
        </p:nvSpPr>
        <p:spPr>
          <a:xfrm>
            <a:off x="3267000" y="507960"/>
            <a:ext cx="3392640" cy="25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992160" y="3220560"/>
            <a:ext cx="7935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5622840" y="644040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E7FD1-DC79-496A-BB46-94D38EC6C4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1"/>
          <p:cNvSpPr/>
          <p:nvPr/>
        </p:nvSpPr>
        <p:spPr>
          <a:xfrm>
            <a:off x="5622840" y="6440400"/>
            <a:ext cx="4300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2"/>
          <p:cNvSpPr/>
          <p:nvPr/>
        </p:nvSpPr>
        <p:spPr>
          <a:xfrm>
            <a:off x="3267000" y="507960"/>
            <a:ext cx="3392640" cy="25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992160" y="3220560"/>
            <a:ext cx="7935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5622840" y="644040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D6941-ABCB-41AA-913B-40011CCAAB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1"/>
          <p:cNvSpPr/>
          <p:nvPr/>
        </p:nvSpPr>
        <p:spPr>
          <a:xfrm>
            <a:off x="5622840" y="6440400"/>
            <a:ext cx="4300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992160" y="3220920"/>
            <a:ext cx="79423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Стресс - способ достижения резистенции организма при действии на него повреждающего факто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Резисте́нтность (от лат. resistentia — сопротивление, противодействие) — сопротивляемость (устойчивость, невосприимчивость) организма к воздействию различных фак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11"/>
          <p:cNvSpPr/>
          <p:nvPr/>
        </p:nvSpPr>
        <p:spPr>
          <a:xfrm>
            <a:off x="5622840" y="6440400"/>
            <a:ext cx="4294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639D1-1742-48BC-825E-3C3C8B5294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992160" y="3220920"/>
            <a:ext cx="794088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юбая стрессовая ситуация обладает  такими характеристиками, как интенсивность  и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длительность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текани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5622840" y="6440400"/>
            <a:ext cx="4300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BC5C-01E1-4577-B7C5-8C709234A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12A3-5A23-4FC5-B812-6EA4FF30E02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63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7E47-89A8-4215-B865-ECDEFA6B99E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63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C1DD-6319-4CF5-9F73-087D0AE02EC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63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9DE-191A-4710-909C-627E834A77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63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F2F-6EE5-4BC9-9E3E-54A18F9D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7FF-909E-490D-AA5F-ECE52E2A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63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5FA-6362-4E63-9E24-7B087B1E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63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A96-9FEB-49AD-A58D-782E8D65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63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63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FB2-C24A-449A-B23D-A0EDF24B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89DD-962F-459A-AD7B-0EF1A9A6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5154-5C92-44AC-AC44-1B159CA5E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36A-9704-4652-AE12-0B88CA9F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777-C670-4821-9762-C8D33A8E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C8D-DD7B-480E-9481-3E2D3457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B26-44D1-49B2-87A2-CEF261B3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EF4-3D19-4B33-878E-08C30D267B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2A55-9EEB-486D-A672-73487AC80B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63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04BF-34EF-4A0F-97CD-D03A2B3A57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63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1980-B32D-465D-8007-D31E8DDFC91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63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63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1090-4C34-4E1A-84A4-27FC055A05B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63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D5A4-1E71-4D97-9906-B3F010003DD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63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47F4-7CE9-4931-B90F-E9ED7AAED56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789E-AC6C-49A2-87FE-9316C50311E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63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5CCAD5-1A36-47B1-B80F-FE40169795E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3"/>
          <a:stretch/>
        </p:blipFill>
        <p:spPr>
          <a:xfrm>
            <a:off x="2019240" y="1600200"/>
            <a:ext cx="5102280" cy="40705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"/>
          <p:cNvPicPr/>
          <p:nvPr/>
        </p:nvPicPr>
        <p:blipFill>
          <a:blip r:embed="rId4"/>
          <a:stretch/>
        </p:blipFill>
        <p:spPr>
          <a:xfrm>
            <a:off x="2019240" y="1600200"/>
            <a:ext cx="5102280" cy="407052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AD4BC5-A62E-42F5-8D84-DD18D124BC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"/>
          <p:cNvSpPr/>
          <p:nvPr/>
        </p:nvSpPr>
        <p:spPr>
          <a:xfrm>
            <a:off x="500040" y="1428840"/>
            <a:ext cx="842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176769"/>
                </a:solidFill>
                <a:latin typeface="Calibri"/>
                <a:ea typeface="DejaVu Sans"/>
              </a:rPr>
              <a:t>Факторы риска, факторы защиты употребления ПАВ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2"/>
          <p:cNvSpPr/>
          <p:nvPr/>
        </p:nvSpPr>
        <p:spPr>
          <a:xfrm>
            <a:off x="3429000" y="3886200"/>
            <a:ext cx="539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DejaVu Sans"/>
              </a:rPr>
              <a:t>ГБУ АО «Центр «Надежд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DejaVu Sans"/>
              </a:rPr>
              <a:t>г.Архангельск, ул.Попова,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alibri"/>
                <a:ea typeface="Calibri"/>
              </a:rPr>
              <a:t>Тел. (8182) 20-18-37</a:t>
            </a:r>
            <a:r>
              <a:rPr b="1" lang="ru-RU" sz="2400" spc="-1" strike="noStrike">
                <a:solidFill>
                  <a:srgbClr val="898989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Picture 3" descr=""/>
          <p:cNvPicPr/>
          <p:nvPr/>
        </p:nvPicPr>
        <p:blipFill>
          <a:blip r:embed="rId1"/>
          <a:stretch/>
        </p:blipFill>
        <p:spPr>
          <a:xfrm>
            <a:off x="1357200" y="3786120"/>
            <a:ext cx="185760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1"/>
          <p:cNvSpPr/>
          <p:nvPr/>
        </p:nvSpPr>
        <p:spPr>
          <a:xfrm>
            <a:off x="216000" y="503280"/>
            <a:ext cx="856764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4.Микросоциальные фак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вязанные со сверстниками, окружени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личие в ближайшем окружении ребенка или подростка лиц, употребляющих ПАВ или лиц с девиантным повед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добрение наркотизации в ближайшем окружении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Отчуждение или конфликтные взаимоотношения со сверстни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надлежность к «отвергнутым» или к тем, кто находится в контакте с «отвергнутыми» деть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1"/>
          <p:cNvSpPr/>
          <p:nvPr/>
        </p:nvSpPr>
        <p:spPr>
          <a:xfrm>
            <a:off x="216000" y="220680"/>
            <a:ext cx="8424720" cy="66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4.Микросоциальные фак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вязанные со школо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Употребление ПАВ в образовательном учрежд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Раннее асоциальное поведение в образовательном учрежд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кадемическая неуспеваемость, особенно начавшаяся в начальных класс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Частые переходы из одной школы в другу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тстраненное или «скрывающее» отношение педагогического коллектива к употреблению ПАВ учени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Конфликтные отношения со сверстниками и педагогами, недоброжелательный климат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Попытка педагогического коллектива проводить профилактическую работу, используя модели запугивания и устраш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1"/>
          <p:cNvSpPr/>
          <p:nvPr/>
        </p:nvSpPr>
        <p:spPr>
          <a:xfrm>
            <a:off x="287280" y="1150920"/>
            <a:ext cx="84250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иофизиологиче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зическое и психическое благополучи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ены, кодирующие энзимы АДГ и АЛДГ, без которых невозможен метаболизм алкоголя в организме. Дефицит этих энзимов в генотипе рассматривают как классический генетический фатор защиты от алкоголизма (риск стать алкоголиком снижается в 18 раз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дивидуально-психологиче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Поведенческая сфер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циальная компетентность. Владение эффективными коппинг-стратегиями. Владение навыками безопасного поведения в ситуации столкновения с ПА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-Мотивационно-потребностная сфера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витая ценностная мотивационная структура личности. Наличие жизненных целей и перспектив, несовместимых с наркотизацией. Ориентированность на ведение здорового образа жизн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2"/>
          <p:cNvSpPr/>
          <p:nvPr/>
        </p:nvSpPr>
        <p:spPr>
          <a:xfrm>
            <a:off x="355680" y="144360"/>
            <a:ext cx="86439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Calibri"/>
                <a:ea typeface="DejaVu Sans"/>
              </a:rPr>
              <a:t>Факторы защиты употребления ПА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1"/>
          <p:cNvSpPr/>
          <p:nvPr/>
        </p:nvSpPr>
        <p:spPr>
          <a:xfrm>
            <a:off x="287280" y="360360"/>
            <a:ext cx="85694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дивидуально-психологиче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-Эмоциональная сфера: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Эмоциональная устойчивость. Способность к отсроченной разрядке напряжения. Сформированность чувства преданности и близости. Адекватный уровень аффилиации и эмпатии. Чувство юм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-Когнитивная сфера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ведомленность о негативных эффектах ПАВ. Развитые ресурсы когнитивной сферы. Высокий созидательный потенциа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-Я-концепция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зитивная «Я-концепция». Адекватная самооценка. Интернальный локус контро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-Духовная сфера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вердые моральные принципы и убеждения. Сформированная позиция человека по отношению к любви, смерти, жизни, вере, духовности. Убеждения  и нравственные ценности, совпадающие с принятыми в соц.групп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1"/>
          <p:cNvSpPr/>
          <p:nvPr/>
        </p:nvSpPr>
        <p:spPr>
          <a:xfrm>
            <a:off x="231840" y="439560"/>
            <a:ext cx="8408880" cy="58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Личностные защитные факто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адекватная самооценка (самопринят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ый самоконтроль (умение контролировать свое поведение и эмоци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рмоничное эмоциональное развит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ые навыки преодоления стрессовых ситуац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чностная и социальная компетент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тимиз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выки уверенности в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1"/>
          <p:cNvSpPr/>
          <p:nvPr/>
        </p:nvSpPr>
        <p:spPr>
          <a:xfrm>
            <a:off x="231840" y="439560"/>
            <a:ext cx="8408880" cy="58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циальные факторы защи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кроуровен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окое качество медицинской помощ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зкий уровень преступности в регион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упность служб социальной помощ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иление общественных антинаркотических нор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есточение требований к соблюдению законодательства по отношению к употреблению ПА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е альтернатив употреблению П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1"/>
          <p:cNvSpPr/>
          <p:nvPr/>
        </p:nvSpPr>
        <p:spPr>
          <a:xfrm>
            <a:off x="231840" y="439560"/>
            <a:ext cx="84088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циальные факторы защи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кроуровен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семь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семейная стабильность и сплоченность (крепкие семейные узы)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декватное воспитание, теплые, близкие отношения между членами семь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тойчивый эмоциональный контакт с ребёнком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имание проблем и личных забот дете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сные правила, стандарты внутри семьи, постоянные обязан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средний и высокий уровень дохо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устойчивость к давлению сверстников, умение контролировать свое поведение, соблюдение норм общества в употреблении наркотик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1"/>
          <p:cNvSpPr/>
          <p:nvPr/>
        </p:nvSpPr>
        <p:spPr>
          <a:xfrm>
            <a:off x="231840" y="439560"/>
            <a:ext cx="840888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циальные факторы защи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кроуровен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среде сверстник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ойчивость к давлению сверстник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лучшение социально значимых способностей (коммуникабельность, позитивные отношения со сверстникам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гативное отношение к употреблению ПАВ сверстник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е норм общества по отношению к употреблению ПА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сть в игре, работе, отношен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1"/>
          <p:cNvSpPr/>
          <p:nvPr/>
        </p:nvSpPr>
        <p:spPr>
          <a:xfrm>
            <a:off x="231840" y="439560"/>
            <a:ext cx="84088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циальные факторы защи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кроуровен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образовательном учрежде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общего качества обучения, усиление связи учащихся со школ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пешное  участие в общественных мероприятия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ощрение, вознаграждение за хорошее поведение, успехи в учебе, мероприятия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гативное отношение к употреблению ПАВ в образовательном учрежд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безнаркотических зон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1"/>
          <p:cNvSpPr/>
          <p:nvPr/>
        </p:nvSpPr>
        <p:spPr>
          <a:xfrm>
            <a:off x="231840" y="439560"/>
            <a:ext cx="8408880" cy="58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атегии профилактики употребления ПА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гативно ориентированная профилактик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роведение профилактических мероприятий в рамках проблемно ориентированного подхода. Акцент ставится на отрицательных последствиях приема ПАВ. Основные усилия сосредотачиваются на снижении влияния факторов риска вовлечения в наркотиз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итивно ориентированная профилактик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роведение мероприятий с целью воспитания личностно развитого, способного справляться с собственными психологическими трудностями и жизненными проблемами человека, не нуждающегося в приеме ПАВ. Основное внимание  сосредоточено на усилении защитных факторов по отношению к возможности вовлечения в наркотиз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"/>
          <p:cNvSpPr/>
          <p:nvPr/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2"/>
          <p:cNvSpPr/>
          <p:nvPr/>
        </p:nvSpPr>
        <p:spPr>
          <a:xfrm>
            <a:off x="4357800" y="1444680"/>
            <a:ext cx="421488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357120" y="1428840"/>
            <a:ext cx="8570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Факторы ри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 -жизненные обстоятельства,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DejaVu Sans"/>
              </a:rPr>
              <a:t>достоверно увеличивающие шанс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 индивида стать потребителем ПА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Факторы защи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 -жизненные обстоятельства,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DejaVu Sans"/>
              </a:rPr>
              <a:t> достоверно снижающие шанс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 индивида стать потребителем ПА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1" descr=""/>
          <p:cNvPicPr/>
          <p:nvPr/>
        </p:nvPicPr>
        <p:blipFill>
          <a:blip r:embed="rId1"/>
          <a:stretch/>
        </p:blipFill>
        <p:spPr>
          <a:xfrm>
            <a:off x="2571840" y="4572000"/>
            <a:ext cx="2847960" cy="1820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" descr=""/>
          <p:cNvPicPr/>
          <p:nvPr/>
        </p:nvPicPr>
        <p:blipFill>
          <a:blip r:embed="rId2"/>
          <a:stretch/>
        </p:blipFill>
        <p:spPr>
          <a:xfrm>
            <a:off x="142920" y="4500720"/>
            <a:ext cx="2274840" cy="1643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"/>
          <p:cNvPicPr/>
          <p:nvPr/>
        </p:nvPicPr>
        <p:blipFill>
          <a:blip r:embed="rId3"/>
          <a:stretch/>
        </p:blipFill>
        <p:spPr>
          <a:xfrm>
            <a:off x="3571920" y="28584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"/>
          <p:cNvPicPr/>
          <p:nvPr/>
        </p:nvPicPr>
        <p:blipFill>
          <a:blip r:embed="rId4"/>
          <a:stretch/>
        </p:blipFill>
        <p:spPr>
          <a:xfrm>
            <a:off x="214200" y="214200"/>
            <a:ext cx="3232440" cy="228600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5"/>
          <p:cNvSpPr/>
          <p:nvPr/>
        </p:nvSpPr>
        <p:spPr>
          <a:xfrm>
            <a:off x="428760" y="2500200"/>
            <a:ext cx="50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Личность с устойчивыми интересами и сформированным мотивом самореализации в наркотиках не нуждае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6" descr=""/>
          <p:cNvPicPr/>
          <p:nvPr/>
        </p:nvPicPr>
        <p:blipFill>
          <a:blip r:embed="rId5"/>
          <a:stretch/>
        </p:blipFill>
        <p:spPr>
          <a:xfrm>
            <a:off x="6167520" y="285840"/>
            <a:ext cx="2469960" cy="17143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"/>
          <p:cNvPicPr/>
          <p:nvPr/>
        </p:nvPicPr>
        <p:blipFill>
          <a:blip r:embed="rId6"/>
          <a:stretch/>
        </p:blipFill>
        <p:spPr>
          <a:xfrm>
            <a:off x="7429680" y="5214960"/>
            <a:ext cx="1535040" cy="10717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8" descr=""/>
          <p:cNvPicPr/>
          <p:nvPr/>
        </p:nvPicPr>
        <p:blipFill>
          <a:blip r:embed="rId7"/>
          <a:stretch/>
        </p:blipFill>
        <p:spPr>
          <a:xfrm>
            <a:off x="5286240" y="2214720"/>
            <a:ext cx="3641760" cy="25002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9" descr=""/>
          <p:cNvPicPr/>
          <p:nvPr/>
        </p:nvPicPr>
        <p:blipFill>
          <a:blip r:embed="rId8"/>
          <a:stretch/>
        </p:blipFill>
        <p:spPr>
          <a:xfrm>
            <a:off x="5000760" y="5000760"/>
            <a:ext cx="235404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"/>
          <p:cNvSpPr/>
          <p:nvPr/>
        </p:nvSpPr>
        <p:spPr>
          <a:xfrm>
            <a:off x="214200" y="900000"/>
            <a:ext cx="35658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рис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Биофизиолог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ндивидуально-психолог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циальные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кро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икроуров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4786200" y="900000"/>
            <a:ext cx="385776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защи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 -Биофизиолог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Индивидуально-психолог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циа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кро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икроуровен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3119400" y="179280"/>
            <a:ext cx="300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Calibri"/>
                <a:ea typeface="DejaVu Sans"/>
              </a:rPr>
              <a:t>Факто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1"/>
          <p:cNvSpPr/>
          <p:nvPr/>
        </p:nvSpPr>
        <p:spPr>
          <a:xfrm>
            <a:off x="457200" y="274680"/>
            <a:ext cx="82296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Calibri"/>
                <a:ea typeface="DejaVu Sans"/>
              </a:rPr>
              <a:t>Классификация факторов риска наркотиз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2"/>
          <p:cNvSpPr/>
          <p:nvPr/>
        </p:nvSpPr>
        <p:spPr>
          <a:xfrm>
            <a:off x="204840" y="1498680"/>
            <a:ext cx="865980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1. Биофизиологический уров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-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  <a:ea typeface="DejaVu Sans"/>
              </a:rPr>
              <a:t>генетическая предрасположенность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: Наличие отца, матери, брата или сестры больных алкоголизмом. Наличие зависимости от ПАВ у более отдалённых родственник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-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  <a:ea typeface="DejaVu Sans"/>
              </a:rPr>
              <a:t>нейрофизиологические и нейрохимические особенност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: Изменения биоэлектрической активности мозга- межполушарная асимметрия с подавлением активности правого полушария головного мозга. Истощенность нейромедиаторных систем (наличие дефицита нейромедиатора дофамина- может передаваться по наследству). Степень толерантности к ПА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-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  <a:ea typeface="DejaVu Sans"/>
              </a:rPr>
              <a:t>психопатологические факторы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: Психические расстройства и заболевания. Депрессивные расстройства. Маниакальные расстройства. Амотивационные расстройства. Патология волевой деятельности- компульсивность. СДВГ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"/>
          <p:cNvSpPr/>
          <p:nvPr/>
        </p:nvSpPr>
        <p:spPr>
          <a:xfrm>
            <a:off x="357120" y="500040"/>
            <a:ext cx="842796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DejaVu Sans"/>
              </a:rPr>
              <a:t>Предрасположеннос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– возможность проявления тяги к употреблению ПАВ при наличии соответствующих благоприятных условий. Не означает сформированности моти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DejaVu Sans"/>
              </a:rPr>
              <a:t>Склонност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 – мотивированное влечение, внутренняя психологическая готовность к употреблению П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2879640" y="2448000"/>
            <a:ext cx="25923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1"/>
          <p:cNvSpPr/>
          <p:nvPr/>
        </p:nvSpPr>
        <p:spPr>
          <a:xfrm>
            <a:off x="216000" y="357120"/>
            <a:ext cx="8783640" cy="59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2. Индивидуально-психологический уров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«Слабыми звеньями» личности являются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ойкие нарушения саморегуляции и самоконтроля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лемы самооценки (неустойчивая, зависимая от сиюминутного положения, неаргументированная самооценка)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зкая способность к рефлексии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заботе о себе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умение справляться со стрессами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ойкие нарушения в аффективной сфере (например, отсутствие умений распознавать свои эмоции и эмоции окружающих)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зкий или высокий интеллектуальный уровен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поведенческом уровне «уязвимость» личности может проявляться как отсутствие стремления быть в обществе других людей, неадекватном восприятии социальной поддержки, подчиненности среде, неспособность к самостоятельному принятию реш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"/>
          <p:cNvSpPr/>
          <p:nvPr/>
        </p:nvSpPr>
        <p:spPr>
          <a:xfrm>
            <a:off x="216000" y="357120"/>
            <a:ext cx="8783640" cy="59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2. Индивидуально-психологический уров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Эмо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первичная реакция организ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и эмоциональной сферы личности определяют в значительной степени поступки и мотивы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Вся наша душевная деятельность направлена на то, чтобы получать удовольствия и избегать неудовольствия» (З. Фрейд, 1991г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"/>
          <p:cNvSpPr/>
          <p:nvPr/>
        </p:nvSpPr>
        <p:spPr>
          <a:xfrm>
            <a:off x="357120" y="500040"/>
            <a:ext cx="842796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3.Макросоциальные фак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доступность психоактивны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худшение социально-экономической ситуации в стра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ценностный плюрализ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традиции общества, связанные с употреблением П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ода на употребление психоактив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лояльность закона по отношению к употреблению П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тсутствие альтернатив употреблению ПАВ для детей и молодёж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1"/>
          <p:cNvSpPr/>
          <p:nvPr/>
        </p:nvSpPr>
        <p:spPr>
          <a:xfrm>
            <a:off x="216000" y="220680"/>
            <a:ext cx="8424720" cy="66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4.Микросоциальные фак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DejaVu Sans"/>
              </a:rPr>
              <a:t>Связанные с семьё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потребление ПАВ в сем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есоблюдение членами семьи социальных норм и прав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Дисфункциональные воспитательные сти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Воспитание одним родите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личие семейных конфлик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стоянная занятость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11:55:04Z</dcterms:created>
  <dc:creator>User</dc:creator>
  <dc:description/>
  <dc:language>en-US</dc:language>
  <cp:lastModifiedBy>Дмитрий</cp:lastModifiedBy>
  <dcterms:modified xsi:type="dcterms:W3CDTF">2016-04-29T08:40:44Z</dcterms:modified>
  <cp:revision>107</cp:revision>
  <dc:subject/>
  <dc:title>Стресс и Эмоциональная культура</dc:title>
</cp:coreProperties>
</file>